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AA88B-2F06-4D5A-9897-28E17296123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Don’t accept what you are told at face valu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ink about what you are told critically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Does it seem plausibl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How does it relate to what others have told you? Does it complete the picture? Provide a different view? Contradict? Suppor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hat does your primary data tell you about the constraints and opportunities for RWM planning, implementation and innovation (higher level questions) and important livelihood aspects which relate to RWM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hat do you think could therefore be done to improve thing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E5BA8-7682-44A6-96F9-6A41B14B22C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Doing analysis in this way means you need to work as a te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Need to combine the findings of different parts of the research – the point of good analysis is it brings everything togethe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Need to be able to discuss how interviews went, which parts are likely to be more reli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Need to discuss and generate ideas with each other for a more full explan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Need to challenge each other to be objective and justify everyth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5F3F9-907F-41E8-BB89-ED9A27E5257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hat do I mean by thi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How can we justify statements in our write up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Need to present evidence and explain how strong or tentative it is (how many informants agreed, direct quotes, etc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Need to make sure everything you say is based on eviden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01408-9737-4D03-9E01-0BFCD74D829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6A82F-FDA4-4F7C-BCF8-ACAF1B4FC04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hat is evid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hat types of evidence do you hav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2E5AD-B259-4C82-A122-30CF84E42CA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hat does reliability of evidence mea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hat kind of evidence do you think is more and less reliabl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A67C0-F12B-4742-B688-ACBBAF4824E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hat is bia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hat are possible types of bia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1DE96-29D6-4051-9B71-7A3CC1C67D5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hat do we mean by triangulat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hat is an exampl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hy do we do i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hat if your data doesn’t agre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hat if you have only one piece of data saying something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70120-D804-4A4F-B04D-468895B2BE0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hat are assumption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hy are they importan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How can we deal with them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6C46B-CEEE-4CA6-956B-4C8262FD280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B7C5-56C0-4B6E-AB9A-DF4B1BB97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005C-4930-4C2A-9D37-944B78F7A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1662-C911-4010-B86C-E37252E06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4353-F783-4C9B-8BDD-322763FF8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B724-222B-4F2D-85EB-2CC2C7D7D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0322-F8C0-4CBF-B989-2BF6232B9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7561-CF12-4AE9-B0E9-E9B3722D3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F9C1-C5F8-4BC4-BE33-E86279B62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605B-843C-4C83-9C4F-2F1B3101F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4EB6-3993-41A8-8D6F-531B034CF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5B2D-358B-4AAC-8C78-521C16C7B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A208-707B-4F13-B9B4-8B4CE9B49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30F98-F1D9-4579-963F-7F755EDD352E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568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000000"/>
                </a:solidFill>
                <a:latin typeface="Calibri"/>
              </a:rPr>
              <a:t>Key concepts in qualitative data analysis and write up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611280" y="1484280"/>
            <a:ext cx="785952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500" spc="-1" strike="noStrike">
                <a:solidFill>
                  <a:srgbClr val="000000"/>
                </a:solidFill>
                <a:latin typeface="Calibri"/>
              </a:rPr>
              <a:t>Critical 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500" spc="-1" strike="noStrike">
                <a:solidFill>
                  <a:srgbClr val="000000"/>
                </a:solidFill>
                <a:latin typeface="Calibri"/>
              </a:rPr>
              <a:t>questioning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611280" y="1844640"/>
            <a:ext cx="785952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500" spc="-1" strike="noStrike">
                <a:solidFill>
                  <a:srgbClr val="000000"/>
                </a:solidFill>
                <a:latin typeface="Calibri"/>
              </a:rPr>
              <a:t>Teamwork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755640" y="1915920"/>
            <a:ext cx="7704000" cy="26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500" spc="-1" strike="noStrike">
                <a:solidFill>
                  <a:srgbClr val="000000"/>
                </a:solidFill>
                <a:latin typeface="Calibri"/>
              </a:rPr>
              <a:t>Justification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3"/>
          <p:cNvSpPr/>
          <p:nvPr/>
        </p:nvSpPr>
        <p:spPr>
          <a:xfrm>
            <a:off x="900000" y="2133720"/>
            <a:ext cx="7272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000000"/>
                </a:solidFill>
                <a:latin typeface="Arial"/>
              </a:rPr>
              <a:t>Storyline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3"/>
          <p:cNvSpPr/>
          <p:nvPr/>
        </p:nvSpPr>
        <p:spPr>
          <a:xfrm>
            <a:off x="900000" y="2133720"/>
            <a:ext cx="7272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000000"/>
                </a:solidFill>
                <a:latin typeface="Arial"/>
              </a:rPr>
              <a:t>Complexit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3"/>
          <p:cNvSpPr/>
          <p:nvPr/>
        </p:nvSpPr>
        <p:spPr>
          <a:xfrm>
            <a:off x="900000" y="2133720"/>
            <a:ext cx="792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000000"/>
                </a:solidFill>
                <a:latin typeface="Arial"/>
              </a:rPr>
              <a:t>Perspective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1547640" y="2205000"/>
            <a:ext cx="676944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500" spc="-1" strike="noStrike">
                <a:solidFill>
                  <a:srgbClr val="000000"/>
                </a:solidFill>
                <a:latin typeface="Calibri"/>
              </a:rPr>
              <a:t>Evidence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1331640" y="2060640"/>
            <a:ext cx="626436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500" spc="-1" strike="noStrike">
                <a:solidFill>
                  <a:srgbClr val="000000"/>
                </a:solidFill>
                <a:latin typeface="Calibri"/>
              </a:rPr>
              <a:t>Reliability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3058920" y="2060640"/>
            <a:ext cx="281916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500" spc="-1" strike="noStrike">
                <a:solidFill>
                  <a:srgbClr val="000000"/>
                </a:solidFill>
                <a:latin typeface="Calibri"/>
              </a:rPr>
              <a:t>Bias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68360" y="177336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500" spc="-1" strike="noStrike">
                <a:solidFill>
                  <a:srgbClr val="000000"/>
                </a:solidFill>
                <a:latin typeface="Calibri"/>
              </a:rPr>
              <a:t>Triangulation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755280" y="1844640"/>
            <a:ext cx="78598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600" spc="-1" strike="noStrike">
                <a:solidFill>
                  <a:srgbClr val="000000"/>
                </a:solidFill>
                <a:latin typeface="Calibri"/>
              </a:rPr>
              <a:t>Assumptions</a:t>
            </a:r>
            <a:endParaRPr b="0" lang="en-US" sz="10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7T13:07:23Z</dcterms:created>
  <dc:creator>jtucker</dc:creator>
  <dc:description/>
  <dc:language>en-US</dc:language>
  <cp:lastModifiedBy>jtucker</cp:lastModifiedBy>
  <dcterms:modified xsi:type="dcterms:W3CDTF">2011-05-09T13:27:12Z</dcterms:modified>
  <cp:revision>13</cp:revision>
  <dc:subject/>
  <dc:title>Key concepts in qualitative data analysis</dc:title>
</cp:coreProperties>
</file>